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AD8-08BF-4A35-B624-16A6CB49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74A-53C7-4F23-B111-1B66849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6DB-B039-4858-A47F-499B147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657-4D65-4C00-8CB5-2B3038EA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93EB8-51EC-4C28-91DE-42B5312A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E96D-6A16-4913-B38C-86FAEA4B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B4CC1-5D07-4714-BEC4-AE6412C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10428-4F65-4A39-8DF9-BC767645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3B237-4C94-437B-B7CC-4FF350CD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931A-B54A-4388-84BD-FCE6E477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40782-A5DE-464A-893A-EC667B5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A5A-5CCB-449B-8177-C61F7CF3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8E5A9-D57D-46C0-A4AF-446BD9B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A1F8-BE08-4809-A2C6-BFF37EC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6F8F-A560-4B19-B7DE-1420C60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F3DB-D563-44D3-A5ED-20DF2E4E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2CD07-6D4D-4DC7-9579-6B8DF610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8B8E-101A-4E2B-A25C-52905A14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B34D-1D34-4AEB-A7E4-2249F03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38C8-38D1-4706-98DF-34C6AEDE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1B3C-7259-4C3F-9C38-01E9DFB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4E0E-E62B-4A05-933D-F530A23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E89-FB85-4921-B4E4-0C4D57C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AD2D-CE9E-45D3-AC51-9F634AD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AC8C-7841-49A4-B472-03F0CFC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838A-582D-44A8-A821-9D4DF075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8356-0C06-4264-AAB2-406DDEE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4A21-F4D9-474E-AC92-5B9E75F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502A-DFA9-4EAA-8119-E94A86E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400E-291A-46AF-923B-C0443025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1A29A-9DAF-4C19-95C3-D8FCEE5F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3184C-06A8-4B06-BEF8-EE41555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28C23-0146-41E4-A985-51CA000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D46-F9D4-410F-AD87-5759C96F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00F19-460E-4997-B612-E98F6EC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3115B-4BF9-447A-A87C-196B0327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B6545-371C-4DE9-ADC8-2A7DB19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3CC41-8470-46FB-BC83-E03D680E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35593-3FBA-4587-A3B5-265AE7A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D040D-9C92-476C-9870-672D175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96CF57-02F7-48EF-A027-CEB7800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20F0A-95A0-4386-BBE8-83E4B946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2D8B8-BA54-429E-B9AD-655FEFE6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389-1C43-4F6E-B0C2-38490AC5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C68-7D28-418B-969C-F1376A3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EF0-A9EA-422A-84AF-2822B1F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B43-C34C-4325-8927-67F2719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77F-8B50-4F08-8BC7-9510D98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AC9-C73C-46AA-8A94-63FC75EAA1B3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35B-71BC-436B-B029-A2C5EDD70408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3114-B5AD-4FD2-9ADA-0D4B833DA850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e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329-7D41-428B-B0F9-5588FCE6B243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212760" y="1925640"/>
            <a:ext cx="3987720" cy="243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214880" y="500040"/>
            <a:ext cx="42958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2" descr=""/>
          <p:cNvPicPr/>
          <p:nvPr/>
        </p:nvPicPr>
        <p:blipFill>
          <a:blip r:embed="rId1"/>
          <a:stretch/>
        </p:blipFill>
        <p:spPr>
          <a:xfrm>
            <a:off x="285840" y="2146320"/>
            <a:ext cx="4786200" cy="178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6200" y="1714680"/>
            <a:ext cx="385776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212760" y="2146320"/>
            <a:ext cx="4719600" cy="1785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429080" y="1357200"/>
            <a:ext cx="3865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5332680" cy="4000320"/>
          </a:xfrm>
          <a:prstGeom prst="rect">
            <a:avLst/>
          </a:prstGeom>
          <a:ln w="0">
            <a:noFill/>
          </a:ln>
        </p:spPr>
      </p:pic>
      <p:pic>
        <p:nvPicPr>
          <p:cNvPr id="189" name="Заголовок 2" descr=""/>
          <p:cNvPicPr/>
          <p:nvPr/>
        </p:nvPicPr>
        <p:blipFill>
          <a:blip r:embed="rId2"/>
          <a:stretch/>
        </p:blipFill>
        <p:spPr>
          <a:xfrm>
            <a:off x="2212920" y="4711680"/>
            <a:ext cx="51451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7200" y="895320"/>
            <a:ext cx="82296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158760" y="549360"/>
            <a:ext cx="8467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225360" y="596880"/>
            <a:ext cx="87170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26960" y="2146320"/>
            <a:ext cx="4071960" cy="1785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4214880" y="500040"/>
            <a:ext cx="4276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304920" y="828720"/>
            <a:ext cx="84247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426960" y="2146320"/>
            <a:ext cx="5145120" cy="1785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2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61372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1859040" y="858960"/>
            <a:ext cx="5138640" cy="1787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643040" y="2643120"/>
            <a:ext cx="6105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268200" y="573120"/>
            <a:ext cx="85471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6:13:03Z</dcterms:created>
  <dc:creator>BEST</dc:creator>
  <dc:description/>
  <dc:language>en-US</dc:language>
  <cp:lastModifiedBy>Пархом</cp:lastModifiedBy>
  <dcterms:modified xsi:type="dcterms:W3CDTF">2014-04-22T18:47:37Z</dcterms:modified>
  <cp:revision>9</cp:revision>
  <dc:subject/>
  <dc:title>III этап В чемодане у географа</dc:title>
</cp:coreProperties>
</file>